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058-0318-40A2-8697-AA7F6A54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210-BC0B-4EB3-B1AF-1A73818C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DF0-61FD-4CD6-A89A-79C5FA4C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ED5-AFD9-459E-B392-006D4F67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ABB-8B2E-4C73-93B8-58959358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8F9-31F1-4B31-B546-066E8525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5E1-C364-4AF4-93A2-18359E4E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BB8-9E94-4E31-9CB1-1353BB24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92A-9EF6-40CC-B601-3BB9BBF7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1AA-1DE3-41A4-85DB-08F0810F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5FD-0C50-4E57-891E-65A58868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8C6-9749-4965-9869-BFA5D48A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0466-8D7C-4196-B527-7FCE092BA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GRESSIVE 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240" y="365760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0" y="5227560"/>
            <a:ext cx="91440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think were the reasons for the Progressive Movement in Amer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hanging Face of Indust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 growth meant prosperous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entury began on optimistic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e of social, political, and economic problems from 1890s eme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nry Ford transformed auto industry with mass production (Model T/19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 industry changes face of n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16: Federal government began highway subsid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derick Taylor advocated “Scientific Management” to increase effici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welfare and morale suffered but pay increas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danger (Example-1911: Triangle Shirtwaist Company fi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stern farmers benefited from vast irrigation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rgeoning Tru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rend toward big business in industry accelerated after 19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ers provided for a wave of mer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DIVI455"/>
          <p:cNvPicPr/>
          <p:nvPr/>
        </p:nvPicPr>
        <p:blipFill>
          <a:blip r:embed="rId2"/>
          <a:stretch/>
        </p:blipFill>
        <p:spPr>
          <a:xfrm>
            <a:off x="228600" y="1981080"/>
            <a:ext cx="4368960" cy="4451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trianglecov1.jpeg"/>
          <p:cNvPicPr/>
          <p:nvPr/>
        </p:nvPicPr>
        <p:blipFill>
          <a:blip r:embed="rId3"/>
          <a:stretch/>
        </p:blipFill>
        <p:spPr>
          <a:xfrm>
            <a:off x="61920" y="2971800"/>
            <a:ext cx="5340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and Consu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production required mass consump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ing middle class consumed new inventions and entertai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eneva"/>
              </a:rPr>
              <a:t>Increase in leisure time because of shorten work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00–1920: New advertising techniques created demand for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s increased U.S. standard of liv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lth increasingly concentr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, blacks, immigrants, Mexican Americans entered work for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’s labor unions defended rights of women in work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Professional careers closed to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Safety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Geneva"/>
              </a:rPr>
              <a:t>Fight for child labor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Niagara Movement" demands immediate respect for equal rights of African Ame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.E.B. Du Bois/NAACP/Urban Leag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migration to the United States, 1900-19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set up to "Americanize” immigr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igration limitations toward undesirables (quota system develo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igrants faced increasing hostil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IVI463"/>
          <p:cNvPicPr/>
          <p:nvPr/>
        </p:nvPicPr>
        <p:blipFill>
          <a:blip r:embed="rId3"/>
          <a:stretch/>
        </p:blipFill>
        <p:spPr>
          <a:xfrm>
            <a:off x="4876920" y="1828800"/>
            <a:ext cx="35607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F.L., led by Samuel Gompers was the largest un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cal organizations (IWW) win spectacular strikes with small nu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rs of class warfare increa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rs improved working conditions to avoid trou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 Henry Ford doubled w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IVI7233476"/>
          <p:cNvPicPr/>
          <p:nvPr/>
        </p:nvPicPr>
        <p:blipFill>
          <a:blip r:embed="rId3"/>
          <a:stretch/>
        </p:blipFill>
        <p:spPr>
          <a:xfrm>
            <a:off x="4648320" y="1600200"/>
            <a:ext cx="404316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2:36:00Z</dcterms:created>
  <dc:creator>Timothy Hall</dc:creator>
  <dc:description/>
  <cp:keywords/>
  <dc:language>en-US</dc:language>
  <cp:lastModifiedBy>Thaddeus J. Brooks</cp:lastModifiedBy>
  <cp:lastPrinted>2012-09-11T10:32:31Z</cp:lastPrinted>
  <dcterms:modified xsi:type="dcterms:W3CDTF">2013-10-28T14:15:45Z</dcterms:modified>
  <cp:revision>33</cp:revision>
  <dc:subject/>
  <dc:title>CHAPTER 22 THE PROGRESSIVE ERA</dc:title>
</cp:coreProperties>
</file>